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348C-2C4F-4E1E-9DAA-E155A07F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5F04-B4C6-4F63-8B77-6AF6E62C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BFCF-542F-430F-BEC9-60661D775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B339-B7B0-4374-B578-A1AFF8625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8F9F-A1C5-415E-BE59-30BC7B18C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9927-6F51-4B29-8946-22FBF887C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51ED-B212-45EF-841B-7E4EF2834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691B-FE9C-4740-A968-DB7AC5EFA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7B42-FB00-40AA-A439-44F1A96BB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738C-A69C-4A82-83C1-BF95CCEF6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DF66-3EF3-4BA5-8D51-DB99B0DD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1B3F-DE72-48CE-961E-BE99914C9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9744-7064-46C0-AB56-645898AAC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3151-7B58-4EA4-9CD0-5B9030673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8"/>
          <p:cNvSpPr/>
          <p:nvPr/>
        </p:nvSpPr>
        <p:spPr>
          <a:xfrm>
            <a:off x="457200" y="114300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040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Perspectives on Microsoft Offic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64D-6B82-43E6-8630-0E68A738ACF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6"/>
          <p:cNvSpPr/>
          <p:nvPr/>
        </p:nvSpPr>
        <p:spPr>
          <a:xfrm>
            <a:off x="0" y="6400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eba12"/>
          </a:solidFill>
          <a:ln w="25560">
            <a:solidFill>
              <a:srgbClr val="feb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3888000" y="3200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a12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0" y="3124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ba12"/>
                </a:solidFill>
                <a:latin typeface="Century"/>
              </a:rPr>
              <a:t>Microsoft  Office  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040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ces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taining and Querying a Database</a:t>
            </a:r>
            <a:endParaRPr b="1" lang="en-US" sz="3600" spc="-1" strike="noStrike">
              <a:solidFill>
                <a:srgbClr val="2040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orting Data in a Query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rt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process of rearranging records in a specified order o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ort records, you must select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rt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the field used to determine the order of records in the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E4A0-7E42-46FD-B0DA-F7C87E7C10A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942840" y="3809880"/>
            <a:ext cx="6958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n AutoFilter to Sort Data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toFilt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 enables you to quickly sort and display field values in various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ing the arrow in a column heading displays the AutoFilter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F53-92A4-4060-97C6-B9CEA84F89A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6957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orting a Query Datasheet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935440"/>
            <a:ext cx="6956640" cy="147456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39B-A167-4894-A786-2E0E4C163FB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Specifying an Exact Match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ct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value in the specified field must match the condition exactly in order for the record to be included in the query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FF6F-5ED8-44D4-9994-2E7A5BAA3FC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093680" y="2684520"/>
            <a:ext cx="6956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Changing a Datasheet</a:t>
            </a:r>
            <a:r>
              <a:rPr b="1" lang="ja-JP" sz="4000" spc="-1" strike="noStrike">
                <a:solidFill>
                  <a:srgbClr val="20409a"/>
                </a:solidFill>
                <a:latin typeface="Calibri"/>
              </a:rPr>
              <a:t>’</a:t>
            </a: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s Appearance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38" name="Content Placeholder 5" descr=""/>
          <p:cNvPicPr/>
          <p:nvPr/>
        </p:nvPicPr>
        <p:blipFill>
          <a:blip r:embed="rId1"/>
          <a:stretch/>
        </p:blipFill>
        <p:spPr>
          <a:xfrm>
            <a:off x="1131840" y="2373480"/>
            <a:ext cx="6956640" cy="259848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85A-F7B1-4E4A-9632-8523C7D83E4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Using a Comparison Operator 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to Match a Range of Valu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4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849400"/>
            <a:ext cx="6956640" cy="1646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BA7-748B-4C36-AEDD-4C2A0FD73D7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Defining Multiple Selection Criteria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for Queri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onditions require you to u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al operato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mbine two or mor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logical ope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want a record selected only if two or more conditions are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 logical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place conditions in different Criteria r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931-ED26-4CEC-A229-8B817D0CEA5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514600" y="4411800"/>
            <a:ext cx="36576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Defining Multiple Selection Criteria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for Querie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1131840" y="2932200"/>
            <a:ext cx="6956640" cy="148104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0D2-8197-4BE9-BC75-7C4796B62C2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reating a Calculated Fiel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51" name="Content Placeholder 5" descr=""/>
          <p:cNvPicPr/>
          <p:nvPr/>
        </p:nvPicPr>
        <p:blipFill>
          <a:blip r:embed="rId1"/>
          <a:stretch/>
        </p:blipFill>
        <p:spPr>
          <a:xfrm>
            <a:off x="1131840" y="2216160"/>
            <a:ext cx="6956640" cy="291312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1EA-D666-4523-8034-9D58B076688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Formatting a Calculated Fiel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pecify a particular format for a calculated field, just as you can for any field, by modifying its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CFB-5B99-4DB7-B5DF-10930F6E948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6958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Objective: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, modify, and delete records in 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how to use the Query window in Design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, run, and sav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data using a query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query based on multiple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data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data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CF26-B6B6-4270-B7AF-DADAC4ED60A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ggregate Function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e fun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arithmetic operations on selected records in a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quickly perform a calculation using an aggregate function in a table or query datasheet, you can use the Totals button in the Records group on the Home t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5E5-CFB2-4C3F-BDF1-C55471B43C0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957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Using Aggregate Function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1131840" y="2065320"/>
            <a:ext cx="6956640" cy="321480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77A1-AEF1-423A-9A1E-416CF05EE2E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Creating Queries </a:t>
            </a:r>
            <a:br>
              <a:rPr sz="4000"/>
            </a:b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with Aggregate Function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gate functions operate on the records that meet a quer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951E-FF0E-4CD7-AC48-B11A06612D4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093680" y="2736720"/>
            <a:ext cx="69566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Using Record Group Calculations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up By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s the selected records into groups based on the values in the specified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BA4-101E-488F-887B-4D7B76C57AC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065240" y="2666880"/>
            <a:ext cx="695628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409a"/>
                </a:solidFill>
                <a:latin typeface="Calibri"/>
              </a:rPr>
              <a:t>Working with the Navigation Pane</a:t>
            </a:r>
            <a:endParaRPr b="1" lang="en-US" sz="40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vigation Pane is the main area for working with the objects in a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vigation Pane divides database objects into categories, and each category contain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04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ccess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C911-0D85-487D-81A6-163998F7701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600200" y="4168800"/>
            <a:ext cx="5964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Objective: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an exact match condition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font size and alternate row color in a data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comparison operator in a query to match a range of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nd and Or logical operators in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d format a calculated field in a qu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calculations in a query using aggregate functions and record group calc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display of database objects in the Navigation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2DC-3108-41D0-8B91-5A2A478C9A9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Query Window in Design View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01" name="Content Placeholder 10" descr=""/>
          <p:cNvPicPr/>
          <p:nvPr/>
        </p:nvPicPr>
        <p:blipFill>
          <a:blip r:embed="rId1"/>
          <a:stretch/>
        </p:blipFill>
        <p:spPr>
          <a:xfrm>
            <a:off x="228600" y="1239840"/>
            <a:ext cx="4419720" cy="470376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11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73360" cy="468936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6B77-0D7E-4131-AC95-5D1E6C3D4CF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Finding Data in a Table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 comm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you to search a table or query datasheet, or a form, to locate a specific field value or part of a fiel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0A5-DFF0-451C-849C-967FB5CACFD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084320" y="2971800"/>
            <a:ext cx="69562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Deleting a Record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09" name="Content Placeholder 5" descr=""/>
          <p:cNvPicPr/>
          <p:nvPr/>
        </p:nvPicPr>
        <p:blipFill>
          <a:blip r:embed="rId1"/>
          <a:stretch/>
        </p:blipFill>
        <p:spPr>
          <a:xfrm>
            <a:off x="1131840" y="2624040"/>
            <a:ext cx="6956640" cy="209736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9A9-429B-4BAB-8B6A-1D06AD2BC6B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Introduction to Querie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Other group on the Create tab, click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ry Desig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333-6B00-4B97-BC91-77328388C925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695808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Introduction to Queries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pic>
        <p:nvPicPr>
          <p:cNvPr id="116" name="Content Placeholder 5" descr=""/>
          <p:cNvPicPr/>
          <p:nvPr/>
        </p:nvPicPr>
        <p:blipFill>
          <a:blip r:embed="rId1"/>
          <a:stretch/>
        </p:blipFill>
        <p:spPr>
          <a:xfrm>
            <a:off x="1131840" y="2062080"/>
            <a:ext cx="6956640" cy="322128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20A-8BC9-446C-A4B8-C78E03817DF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409a"/>
                </a:solidFill>
                <a:latin typeface="Calibri"/>
              </a:rPr>
              <a:t>Creating a Multitable Query</a:t>
            </a:r>
            <a:endParaRPr b="1" lang="en-US" sz="4400" spc="-1" strike="noStrike">
              <a:solidFill>
                <a:srgbClr val="20409a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ultitable query is a query based on more than on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04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create a query that retrieves data from multiple tables, the tables must have a common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B6D-2A50-4839-9DC5-21F6BE6D89E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600200" y="3178080"/>
            <a:ext cx="62215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رنا العكرش</cp:lastModifiedBy>
  <dcterms:modified xsi:type="dcterms:W3CDTF">2014-03-05T19:46:52Z</dcterms:modified>
  <cp:revision>80</cp:revision>
  <dc:subject/>
  <dc:title>PowerPoint Presentation</dc:title>
</cp:coreProperties>
</file>